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9792-EAAA-4E38-B505-0C95E190F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5695-123C-497C-B9D3-732093AA7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13AB-2AEA-4F1B-92E6-C4362A8C9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541A-75B5-4ABA-8876-B8F807C1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9919-7E5E-4C1F-883A-081F40DDD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9824-43B2-43F2-89BE-D640F424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47B8-B08B-4C0D-9E67-9392C323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65C9-9C7E-47C6-B126-34AC5E98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6EB8-84BF-4AC1-8EDC-DB4B50FC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F6E1-1AD6-4DD2-B94B-C62F86FB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4503-FD25-4C4A-8F14-3344538B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7112-6308-4B0B-8DA3-A97AEBB3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0FEC-1BE6-4FB8-B7A5-223E3A72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5EF5-ED7D-4E64-BCE9-DD11799D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473E-2A85-429A-A375-6DDFDE762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armela Cuns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rmela Cunso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Carmela Cunsolo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Carmela Cunsol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Carmela Cunsol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6705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228600" y="47242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31680" y="563868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657600"/>
            <a:ext cx="175284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umbre es Carmela. Vivo en New York. Tengo catorce anos. Tengo una hermana, Charlotte. Yo soy inteligente. Estoy feliz y sympatica. Adios Amigas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-19080" y="5102280"/>
            <a:ext cx="64764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10228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6386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94360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400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181480"/>
            <a:ext cx="439560" cy="62892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486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Carmela! Estoy bie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Buenos Dias! Como están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6400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4:57:05Z</dcterms:modified>
  <cp:revision>103</cp:revision>
  <dc:subject/>
  <dc:title>Profile</dc:title>
</cp:coreProperties>
</file>